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C7C-AC47-45E4-A7EC-F9B5D1B4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284-FF28-44FE-9840-A8FB47FF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EF2B5-65F2-4E69-BAA8-B9DF40E4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E67CB-1AA1-40FF-BC40-EE09D407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56198-B0B2-4FC9-8A67-ABCC51AA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085EC-416E-4A21-BEA5-7BD57E95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CDC15-8B2E-43AB-8D28-9AB5CBB3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DA065-B542-44D0-AFD8-F63F3919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68F1D-10A4-415D-B610-BE919BE1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82871-6F79-47E8-9059-41E4FB17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8EAA0-44AD-43F6-A21D-A00EFA11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1553C-336A-4166-B74A-37B17D34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947-EF96-4A71-894D-26228175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F89B3-856D-42B1-92DC-48966331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1234F-A5EB-4E03-A335-1FB646C1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487A0-5C02-4AEE-8208-F0165BD4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0B348-0816-4FDD-801C-771CB4AF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E1D6F-056A-4E1E-BFBE-4BEDD64D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E9086-799E-464B-8235-79EB0D24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7BFDC-C60A-4A20-AF8B-8B1BEB8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29344-A42C-48FE-A90E-8B8E43DF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7B183-4FDF-4C0D-A508-A2907C21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9B9A9-81E1-4D46-836F-FBA00633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414-A55D-49AA-8B28-58E4CBB6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B18C8-13C6-48D1-8213-50525626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DC134B-0A7A-44E7-AA2A-EB8129D2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26AB1F-E05D-4F13-AF4C-840C467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8FA519-1666-4FF6-B77D-DE1C06D7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956185-B408-44D7-9623-7E61EA73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E089E8-3F1E-40F6-9D3F-54F36EC0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6639F6-AC80-4979-B6DE-05863395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B14E34-F48F-456F-BB92-105B99D1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3C11A4-1B9F-4B49-A8F0-36C36AE8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042161-DBE6-4853-98CE-296D385C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2029-677D-49A4-AB62-4B89A8B0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ADD1DB-10B2-4041-BE59-B1D74C66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2F93CA-B66A-45DC-970E-105083B3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1579FB-BC3E-4CC1-9286-3AA80252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6A9FF-EAC0-4B1B-8960-E7176F82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1BB47-2D4E-4226-9DEA-44413760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0E467-C3A7-43D5-88BD-C967F5CB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026E2-3F30-4DA5-AAD1-C6ED5615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644CF-9F04-4F24-85AA-C4C87075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7DDBD-4F9E-45E1-87C3-9C465739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9B440-583E-442F-8895-E63AFD6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105D-73C6-43BF-985B-DF4B48F6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B019A-47E8-4C3F-95C1-0D4FC933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DB48A-95E7-4CF6-8215-9DE0D3EB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0A853-D351-42C7-9700-9922584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67467-4D6A-4745-B2E8-3BF290D5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F1143-C4AC-4916-98BC-4B367842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A2B1C-A54C-4E6D-AA89-171B828F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57533-FC7B-45E9-89D5-12E36823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2B866-C6EF-438F-A732-DA1D1399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D2C01-EDE2-4F1C-B689-8030C39D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EE1C5-71AA-46F5-AB18-1D42B71E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BE45-A79C-4813-9531-55AB85F2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6EAB4-2D43-4C34-BC36-AE135E6A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17385-8C9E-4AFF-9B52-38D0A734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01300-4ECD-4990-B9B9-2C6A3A7B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124A5-2FF1-4239-825D-AB72E4E6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93CEA-E2EE-47B5-A344-56E9A1B7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F065B-0009-47D9-A260-066AA42C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6A740-B948-43C3-B7A3-560B81FA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3889C-C11C-4019-8DFD-4974943F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D3DF7-EFF7-4BE3-BB17-3D173E7A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44D11-3DFA-452B-A4D3-65EF92F1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61D0-447A-43DF-9B4C-2B39377D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C4EDA-39DE-4EA8-BC6F-829F77AA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686EE-5B27-4257-9BFF-B2EA784B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CB0FE-6469-47D5-9136-40429A6C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4016D-F8E0-40D9-8E55-5D359F47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D6336-8638-4AAA-90C0-7DC40D07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BD4B7-EBA6-4808-BF3E-4E9AB33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8D385-A948-4B09-9C5E-E13156DC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8B61B-E7B8-47FA-9792-2CE56513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805DD-9502-481D-9FBA-56FB84AE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D273-B827-438E-9FE7-2FE6FEA1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D70F-D7DB-442F-91B0-AFB989AA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9E58-1292-4313-AB8E-A0225BF3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C7A-5B48-4D99-B992-170E29B4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3B11-203A-4B2A-9FC0-C3A77C10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0213-94C2-42D1-912E-6A3D1A3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A1A3-F3D1-422E-9A72-54905E1F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1065-7D6C-4F1E-B3E8-BCC4C36F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9E64-7247-46BD-8FA2-AB31BC58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F3B0-C2F9-44BB-9F9A-F9F25604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7566F-88F4-49F6-8158-10081D8D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91A4-C7CC-4431-8E23-30C3116D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40CCD-42A6-42F6-98E3-BDA7C327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8747-D086-400C-842C-E63F6AF3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112-8548-45D2-839D-D524CAA6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5AF35-AC19-4CEF-9969-AC4FE8F4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5EC2-E7E6-428E-A91B-2170071A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C66F-2D5E-4123-BBBA-7C0B4832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9F15-58AE-44C2-A8C3-5F46C947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50BFA-343B-4586-A24D-23015742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3A3E-ABB5-4B86-BEC9-FB81D631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3AA4E-3660-4199-9C90-C5F47824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F1A0-4A3E-404C-912C-C41E964A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15B5D-725A-4010-869F-E48F105C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9CEB5-35FC-49FF-9C48-6A35BDEC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3DB-7590-419F-8B08-25848F98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058D1-041B-4220-A378-BF52F69E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D08A7-001B-482E-AC06-B4C1B8BE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3750E-9252-4362-A557-EAC90A8A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AA150-2C1F-4AE2-B5A6-2EFD113D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44B23-F21C-4021-A8C1-7441D7D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DA0FF-6BA1-4923-AD8F-49AE37B4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69412-87D6-45A1-ACB5-356566C1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21F2-D5F3-45F9-8C08-FA889688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37241-36FB-4D9D-9D3B-64D2AFD4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39A2F-1AF1-454F-B915-185E3159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A55-8077-4067-810F-66791776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45C39-1B53-4B7D-B3C4-D051F7D5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3058C-23E6-4D0C-97AC-6295D0AC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23316-3068-4031-94C7-92841BCD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62F26-0C73-4912-A81E-086A1DD3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B0998-F98C-4CC1-AD5F-3AD5C096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58015-6707-4A7B-AC77-D291763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DC6B9-A873-4F0D-A21A-BDA8CA4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69267-5B3D-44B3-86A3-53B861B2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13EC2-29A2-4109-961A-B378892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C1C5C-0C30-454C-AFF1-FBD1F1C1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D0D-9F4F-44E5-A671-5C8611B6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04952-DC4C-48BD-BF8B-DDAB4CE3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D2DCA-D269-4846-9950-494FD3BF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5637-D792-4E0D-B019-85890505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7AF68-5CFD-4FA5-BDB0-916F6908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682F0-F558-4AED-AD60-21ED4BC7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4F2B8-4888-48D1-80D8-9B719888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C3643-1A73-446D-A871-79221194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C9767-BFB3-4F80-A480-4E07DD68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61C5F-886D-4096-B268-A6E05936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9DCCE-6628-4AF8-B778-1B76D749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CD6-1FEF-48D8-BBC3-DD9A5A9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CADB2-8ABD-4275-B7DB-28533666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09800-2A61-451D-A194-F00D06B8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C3D64-87C4-4D44-914C-CD5E9237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C48D9-20A4-47CC-B277-A110705B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E089A-7809-48C5-8960-7ACF0DE8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5501D-8733-4AB9-9C4E-30E44B54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F063B-B489-4F93-9FDB-D518B70E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E8822-40DE-4279-B59A-2FABBD62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ABC03-83B9-4583-B18B-EDC523AD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931F0-6F4A-4AC5-922B-821F5E45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712-E4E4-4FAE-BB1E-DB43ACE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FB2E5-1047-4126-95BF-06631F0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F0686-BC90-4739-B28E-D6E08D46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7C41A-9D16-48CC-AE30-F91DA916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BF782-A19D-4F1D-991D-9F5545B3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1FC28-AC96-434F-BA5C-FB94CF35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EA290-1A7C-46C6-8B4D-1D931811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F1D61-380B-4569-9F4F-17C1DAC3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DB722-4638-4FE0-BC44-3EB716FB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646FC-097A-4BEC-8066-A6001242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A0F99-1DA5-4586-83F9-D28C1CC7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B11-A5EA-4212-91CA-8DD27BB8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B5C29-CE42-4209-95EB-62F6423A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CFC9B-A0FC-49E9-BE69-8EDBF0C9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C1D49-C858-4274-9E76-AAFA5EC2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34EC-7AB8-4715-A4F1-6BF97DF0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CD844-EDC1-41BB-8501-5D9D8DFF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EA6CB-5295-40C8-930B-4D792A39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4C45F-4E77-4B15-BF32-C554E6E5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E26CE-86DF-43F3-B94B-1A6838E6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91582-46E6-4DF5-8703-DBB084EC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ADA79-4DA1-466E-A750-95EBB622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41E1-78D3-438D-8B6E-D0DF3AAE1D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10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2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2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3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6536-0716-4B6C-B7AB-F4C29E4DED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2C1D-2790-4DA4-9ACD-B451008AC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5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5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0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0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65E2-72D4-4BBD-B9F8-4358597FF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6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86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87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7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C818-9D4A-4E4D-9E5F-8818FA07497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93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93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5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95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96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6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6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2C9E-9DB7-4133-9DEE-FAA4854AE09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4B91-7F56-439E-BCFF-1FB423BE2A1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BD5F-A482-42ED-B70B-111B29AF08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8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13F1-AD7C-435F-9DB6-9AD44909FF9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2887-1CF3-4120-B16A-05A6E64650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7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5AA1-C4C5-4E99-A43F-538E4293D4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3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CBF6-C1C9-4814-84F4-8A7A1E7D0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EDBF-93B3-4CDC-BB9A-D21EC9EDA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5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B6F5-AABC-4351-BDBB-86961DB913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60;&#1072;&#1081;&#1083;:Backing_sheep_at_sheepdog_competitio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Impact"/>
              </a:rPr>
              <a:t>ДИКИЕ ЗВЕРИ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хипова 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2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ГП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09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6034320" cy="44956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Какая пословица гласит о том, что дикого зверя нельзя приручить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e929"/>
                </a:solidFill>
                <a:latin typeface="Tahoma"/>
              </a:rPr>
              <a:t>«Сколько волка не корми, а он всё в лес смотр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Желаю вам успехов в получе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579760" cy="3895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Возможно ли приручить дикого зверя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4546440" cy="340992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5035680" y="2060640"/>
            <a:ext cx="3289320" cy="3600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Georgia"/>
              </a:rPr>
              <a:t>Назовите одомашненных животны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4140360" y="3716280"/>
            <a:ext cx="2879640" cy="252720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Щ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оба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есные хорь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ВОЯД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Ов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з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ошади, во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БЕСПОЗВОНОЧ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чёл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овый шелкопря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7" name="" descr="Backing sheep at sheepdog competiti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557360"/>
            <a:ext cx="145764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Знаете ли вы каких животных          нельзя приручить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Чёрный воро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Каба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Лошадь Пржевальского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4016520" y="1919160"/>
            <a:ext cx="399384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их животных уже не существует в природ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блезубый тиг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мо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прачный тапи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дийский носо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4572000" y="1771560"/>
          <a:ext cx="419112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71560"/>
                    <a:ext cx="419112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Monotype Corsiva"/>
              </a:rPr>
              <a:t>Какие вы знаете изменения признаков после одомашнивания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Сокращение массы мозга на 20-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ритупление остроты восприятия(зрение, слух, обоня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Изменение или исчезновение некоторых форм поведения( к примеру- понижение агрессив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Уменьшение зубов и р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явление разнообразных мастей и окр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Редукция волосяного покрова (свинь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Менее развитый инстинкт защиты потом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вышенная плодовит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то был предком домашней лошад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78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3995640" y="1844640"/>
            <a:ext cx="3751200" cy="3195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ути одомашниван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уть привыкания животного к челове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сильствен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5796000" y="1268280"/>
          <a:ext cx="190656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268280"/>
                    <a:ext cx="190656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4" name="" descr=""/>
          <p:cNvPicPr/>
          <p:nvPr/>
        </p:nvPicPr>
        <p:blipFill>
          <a:blip r:embed="rId3"/>
          <a:stretch/>
        </p:blipFill>
        <p:spPr>
          <a:xfrm>
            <a:off x="3924360" y="3429000"/>
            <a:ext cx="183672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рвое, прирученное человеком животно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БАКА, предком которой был вол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5800680" y="1600200"/>
            <a:ext cx="1733760" cy="2185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5338800" y="3938760"/>
            <a:ext cx="26575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43:52Z</dcterms:created>
  <dc:creator>User</dc:creator>
  <dc:description/>
  <dc:language>en-US</dc:language>
  <cp:lastModifiedBy>07083</cp:lastModifiedBy>
  <dcterms:modified xsi:type="dcterms:W3CDTF">2009-11-05T13:14:12Z</dcterms:modified>
  <cp:revision>13</cp:revision>
  <dc:subject/>
  <dc:title>ДИКИЕ ЗВЕРИ</dc:title>
</cp:coreProperties>
</file>